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0744-7F6E-4520-A2B8-87F7C32A4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650A-C179-463E-8E88-5E13D6842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CBC461-B399-4E0D-9868-4FA633A04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40C94B-E0C5-45A4-9C6F-7D268C4E9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3F9D44-35AB-4962-A183-76709F65E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EE9A18-D89E-4851-9C1F-BFAEC26FE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E5E170-0919-456D-8F36-AE7E4BF7E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1118F4-50E6-4E67-8A87-FA1DDC5E2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074F7E-E822-4835-B552-6A43C6AF4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7519D9-4839-426A-A48C-B8938F4F2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0DA141-612A-4D55-A538-5FC74078D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0B72B5-C95A-4D82-A159-43B360D10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6964-4B1D-4219-89A7-71506C254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DB21F5-380C-4355-A520-EAD120DA7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6940B8-D29D-4DA6-A531-F6FB81DE6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C1443D-A57E-4822-9990-69A9EE266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9B93F5-90C7-4A04-957D-5CD88855C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2BB03A-7F26-4EE6-8782-ED36B103F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4B69AA-F123-4BDC-9986-8D0EB7F2F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B93C5D-6EDB-4866-B585-111AC144D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084B46-B322-451C-9973-D5588D33A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A150EE-8F2B-41D3-8E06-2909BC412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F0921E-FB13-4BCF-878C-855B7EFE3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E38C-E5C8-41E1-963A-45E263A4C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3FB861-6FED-4906-8A53-493E125C2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B5A231-D5B1-42B6-851B-E458F3332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1D400C-16B1-46DC-BEE5-04E7617FC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56552F-390C-44F4-926B-C2DCCF4CB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A2485E-8D20-4B44-8082-51F62ABE0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802818-6E0C-4F3A-A686-8346994D9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6664E0-6695-4714-A897-E32ABF7DB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C96468-021F-4C8A-A24C-2BE5BCF7C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4968FC-DC84-40A8-AEB4-10AF1756B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8765E7-1563-4618-AC05-4ED22E4DE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94921-4F87-4B7A-81EC-59825D891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CFB2B5-9EDB-4EC0-AE1E-030D5A38F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5EFEC6-E589-4E53-83A3-84AA82C72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2A18FE-98A5-4470-81DC-4ED3FDB3F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0AF4E9-CF78-485E-A6AA-2558F2D65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C85264-11C5-4387-8897-8C50D8457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FE5CDE-4384-4476-895A-47EE4EA89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49B9C0-FB3D-4F71-B40B-2091F0F28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34A519-BDF9-4103-8E14-D7D13C866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D41DFA-0F37-4E04-9964-1762E35F1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2CEC7C-924B-43F6-9D6E-F3C8FBA73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9962C-3224-40BF-9C45-094AB2C77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D0A7EB-2A77-49D8-B022-CF37E7130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0584DF-CC6D-4849-AF50-46802D66E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B3567C-50AF-46E9-A8B9-4B3E0D777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013C73-4E34-4727-A265-F5DAD92CC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F5ED59-05F6-404B-BA9A-185563A51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B46F3-8C1C-45D9-958A-33B1B79BD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EB9C6-5728-4850-A8D4-4919FD125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1454B-D41C-45A3-96FD-107BA8524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DBE8E-A6DD-44EB-B593-3C002A0B0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4CAB8-D215-4D06-9691-6BE732CCA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B034-042A-44E6-B204-43A9CD63A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2C106-52E9-4020-A2DA-AE3A90A16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61D15-7D65-4F34-AF20-E6BBBDF18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4EF91-2E9A-4B6A-8938-9FD585DFB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93CE1-8B04-4A92-950B-8365C46C4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0CBF4-9BBC-4784-970F-8831DC013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195BCD-345F-4BD9-A3AF-290A0CB97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5DCB5E-6F74-442B-89F2-300897D20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A4FE95-E8B1-4C80-B64B-61CB87419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CB2B86-516B-4299-A2F2-C264BA023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588C8D-7AD8-4B60-8695-6EEA3A29D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0077-A276-4BE5-B741-935C80B44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A48350-317B-4293-A235-599EF7A6C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E45979-8B36-4F94-91CA-658B9BE9F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214F11-C3D4-4980-AF95-EF0088144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9AD71A-6119-4350-BD2F-6578EE875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53018C-3611-4B03-844C-7DBC0EE6A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09017D-4D2F-43C0-B9A6-9BCDF5391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C37034-2D90-4761-9126-8EB4178D5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0FF49C-AC8B-4613-9967-139D877B8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D8E8A0-821F-492A-9C76-6B848D134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1C96FF-A5DB-47E0-A1B9-4C33249C8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3E30-745F-4B8D-B82F-1E8A7D3D9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874915-2E8C-43F6-B10D-22B1F6EF8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7CAFFE-8805-474A-98C2-FA6A5D8B9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E11DAD-E3E7-459C-9C26-0B552E740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341C79-50B1-40AE-82B0-4A49CE686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AB2DF1-C49F-4203-A73B-71EEB6BF3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917442-86E3-4402-86E6-AB3D71AE1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79CEFA-9A4D-479B-A308-D08C9A4F0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9E1AB6-D844-4C6D-8A5D-D3E62C83E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56E312-0FE4-4D2C-BE89-489653DC2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7B1F88-1EF4-4E55-B232-A46144FE8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2A91-22AD-441F-A689-C40687EF1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DA9BB8-2528-4C8F-95CF-2D38F17DE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77CFBB-DEA2-46D7-BC2B-8E9A09758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F2E944-5FFE-4409-9665-4A28B6F9E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73D3E6-6F97-4DF2-9F1F-26914ABFF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A1CD08-B32D-4040-97A0-AB016E962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0809AA-32D2-4DE0-B61C-0084FF708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AE0154-4AE8-476F-8B50-99E53BCFE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F11A53-C096-4F8E-A4D0-76D8F1F85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25024A-D8D8-48A3-85F5-BCD3243A1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D5E215-6EA5-4FDD-94DF-F8AD08AD9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7DF9-1AC0-4AAB-BC51-5239A6771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8A16D9-C8C6-418D-B845-923D2729F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80C7E2-84EF-4FA9-A885-DA58E195F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85C404-8309-4447-B3B8-A57C830C0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134D51-24E9-4234-9A91-2D7CE260E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188D1A-DB12-4002-A8AD-9D61F618F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F0F139-692A-4767-9FBC-C156ECCAB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296887-2837-44E8-925D-9D8C59474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CBF803-8029-4796-BCF6-6E05A6F6D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87DBE2-2ADC-492B-962C-D93B67A79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847A0D-59D4-4809-9CCD-653AEC596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920E-E2F1-48F2-9081-53690E15E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718790-4B41-4448-B5E3-37510534D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DB6240-8EC9-4600-991B-A8A5A2807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6F894E-C894-4282-93CE-4D1F42171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FFF576-4B44-4F3A-A67C-C97AB0B9A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A06118-5974-46E1-8084-89020985B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3754CB-BF69-4EB1-9CDD-A136EC890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A51D87-1C3E-4FF7-BF4A-FB6F0CEF9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F93932-EDDF-479C-A9F4-C23EA3C4A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243C56-D58A-4616-BA4C-D7EF0B398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9146A1-5514-4E53-9BFD-E98FE2D88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78E9-F67E-4EE6-9E37-8D1A22CE6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CF0F60-1DA3-4E1C-AFD3-AF8CFD3CC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8E591F-5B1B-4284-97D0-3D820F061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BBEE6A-4483-428D-9EFF-BA0EF231D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E41ABD-94CF-4E3E-AEEB-4C689E736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059EFA-D36F-439D-A6F5-19638A7E7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2ED978-A502-46C0-B83B-F6A3E3A19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FE7C39-D265-4910-A697-AFDFCE02D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EB0334-359A-49A3-BECA-8C1D2BD8D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AAA5A4-670E-4463-BC6D-A6415225B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923403-821D-4219-9874-3AF804654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4E67-6759-4C7E-A5C6-235368DFE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714C72-B332-407D-BA30-CF34A8281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691693-3EB3-4C17-B3F2-68554F8DC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AF9CAE-AC23-4A78-AB53-14D030146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67E252-115D-45BB-9314-1A809B9AB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FF18D7-9260-4607-9086-E22A8CB4B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C68ECB-B1A0-4AEC-A2CF-499309EFC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E998FD-B9B9-4BA4-82EA-E10D18EB8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4A6072-D0F2-4E88-BFF1-C6A18D01A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B6C799-FF73-48E1-8595-3235EC033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8C199F-2762-445C-AFE6-845B4BD87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53613-E605-4CDD-A499-4996E333F8AF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3DD40-CF66-408D-A453-14D0664D93D8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FA1B4-AA1F-481E-B7D6-648FABC4B0AF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traight Connector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l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D3895-A103-46F9-AA64-B0C70BB04539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CFAFD-6555-440A-ACCD-9E7F7712522E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188C5-7B43-4A08-9361-A89E40DE3DE3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67E2D-A3CF-4990-B562-EDC01C4BA8D6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DF61B-159C-482A-A689-A3795DE58997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395CD-F7A1-4E05-82BE-F52FCAA797C1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E1159-1F9F-4B76-AC00-6E8EFFA9717D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8E3A7-72A0-41BE-81F4-F62970D1DFA0}" type="slidenum">
              <a:rPr b="0" lang="en-US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traight Connector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F3C4D-610F-429A-9D84-C1F7D1B7852B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hallenge #7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WITHOUT TALKING or using your lips or sound to communicate. NO WRITING 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t in a near perfect circle arranged by birthdate (day &amp; month)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yr. only if two the same-oldest 1st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osest birthday to TODAY sits in the 12 o’clock positio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Please, leave an empty seat for October 30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ssessment – time, accuracy + “use of lips” or writing penalty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Reminder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301320" y="1527120"/>
            <a:ext cx="8504280" cy="495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BTE – this Friday 11/20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Completed permission form and $11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Past work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Resume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Name Art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Princeton Review survey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Resume Evaluation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Tracking Activities tip – Mrs. Yates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Next Seminar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Soph 1 – 11/23 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Soph 2 – 11/24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Juniors – Tues 12/2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b86"/>
                </a:solidFill>
                <a:latin typeface="Georgia"/>
              </a:rPr>
              <a:t>Seniors – Friday 11/20 or 12/5</a:t>
            </a: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Smart starter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What is smart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Did someone tell you were “smart” before or after you knew? Explai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When did being “smart” surprise you? Let you down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Does “smart” apply to all things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Does “smart” imply success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7120" indent="-2671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It’s not that I am so smart, it’s just that I stay with problems longer.”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36400" indent="-26712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Albert Einstein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6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6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6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2000"/>
                                        <p:tgtEl>
                                          <p:spTgt spid="6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2000"/>
                                        <p:tgtEl>
                                          <p:spTgt spid="6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6T13:54:16Z</dcterms:created>
  <dc:creator>bguenther</dc:creator>
  <dc:description/>
  <dc:language>en-US</dc:language>
  <cp:lastModifiedBy>bguenther</cp:lastModifiedBy>
  <dcterms:modified xsi:type="dcterms:W3CDTF">2009-12-04T20:36:44Z</dcterms:modified>
  <cp:revision>7</cp:revision>
  <dc:subject/>
  <dc:title>Challenge #7</dc:title>
</cp:coreProperties>
</file>